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E07F6-2A16-47CF-9C87-494E6C33B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168C9-9A1C-43E3-967C-1839C8401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6FFF0-5D14-4AF4-B59C-14F86EF7C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37287E-1B2C-4644-9FFA-AF1E4F842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47D15D-F5A6-4D23-BDE1-C1A8196D02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3D8C8-62E5-42F8-B29D-C9B3637BF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CE6A8-A3C6-4528-87BD-00C4F3CFD8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EC2D2-803D-4D82-83E8-6AD13CABC6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0F12A-2BD1-40D3-BFAE-5BFFACF23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B2E989-79B3-4790-9376-DAD5A543AF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8CFB5B-F519-480F-9AD7-FEBDD6BE9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742E7-2FFF-4043-A57D-6FD25C176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FEBCB-1AF4-4EA4-A877-EEF5B4810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972AE-FB82-4A70-90DB-183A482B6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2DD76-FBA3-4996-8C60-6C5DE0A11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B67DC-19A5-4EEC-914A-5E9913CFA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1F2D2-38A3-4CFC-BF80-59D236659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7E824-7929-40F6-9DA7-FCD670E9F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7436D-0F61-4AF0-B5D6-38AEF16B5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87C53-8A40-4A0A-B487-EF94CD5DA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87FF-1ED5-44CB-A68A-4A42BB57A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475E1-17D8-4D97-BAAD-49CBA1D83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1F33-9BA2-49CF-89A8-855C423FD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D3775-B961-40CC-86B8-A6CC224BD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0609F-3F0B-425C-9C79-8ECD5A717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0CEA1-6B9D-4A33-8C9F-8DF793F27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02C5EB-7DEC-4ECF-95A5-397A9B23F1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385FD-C0C5-42C6-B863-DCB78A8C8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CABF4-BB9F-405F-BA9B-1DD7C2A08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AB97B-5032-40FA-BC4E-00A4CC44D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8A4CE-D5FE-447A-8AB8-CB3DACAB4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58A5-8BFA-4A46-BF1A-DBC61AD7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008D0-95D6-47C8-ACF1-EDF3F9950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446A6-A2BD-4FB3-958E-79D45AB0F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C1D19-64CE-4C57-AE64-8425F77C8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D9089-8842-482C-A6ED-9D4CB8AA6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5C3CD-18AB-4013-A754-AC57E2D4B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337A42-D7B8-445A-B065-DB724CE1D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1ACE81-20A0-417B-9154-5B4E6C2A1C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60D98-077A-43A0-8CB2-072F56D16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35A58-42A7-4309-B717-7D856FCC55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06388-CF2B-426B-A8E3-5228AC6F6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C1FA-1B40-4542-B30E-E70211F9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4D729-B5C1-4F07-8A29-E49E7D2C9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C5D3B-B3F6-4BCB-BC39-78C2CEB09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7D8A8-47A1-4209-8643-F113864F8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2FE44-70E7-4250-85F1-4B6F4395F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87051-44E8-456C-AF69-75911CE08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C73B0-EB50-43E3-BC28-41986CF77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0B086-9DBA-445D-839B-EC71E3A23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296097-73FC-420B-9F2F-719B88C31C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B40A73-39D8-402D-9F7D-3FEF317A3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BF682-FFCC-4AF4-B269-945379920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B0C7B-61B8-4EAB-9E83-66A3BC61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01203-5684-4A0E-9F5A-13561CCC64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4F3BBC-7FD2-4FE7-AAA6-AC4926494B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F14D2-E202-4863-8B76-40F00D00C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DBAB5-3054-427A-9A66-162D92601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CAD14-25E5-4574-B3EE-32F0B24A8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2705B-B860-4176-9B84-2491B85BE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D8A7C-03AB-4235-86B6-2AB3EA128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6FE20-69D3-4CED-BE58-D8C30CDA4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D01BD-5824-48B3-9668-EE1AF1E57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9EFDB-5C62-4872-9404-6F6246276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57694-80D3-49C3-A776-856C49CCC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611A5F-D4D6-41B6-A5D3-828124FD57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467DBA-24AC-402C-910A-48D153A644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998D7-6340-4F52-BEDD-2F118420C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36204-4B20-4F26-A9A0-A09BD6352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7D901-07BC-4703-BA25-0D784326D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41ADE-6F0E-467E-9485-9CA476950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6ECAF-ABF2-4566-B44D-5A4B2F2B9C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E286B-2568-41D6-98EB-8BB500BC3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C5472-A44A-4215-A7B1-264290104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616FD4-FE72-459E-B974-EE2074C49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6DCC-612E-4BDB-BCA3-930B4D0F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BE2F5-7FBC-4C71-9995-69910169D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87DD4C-5102-4CA9-A3FC-018C0AE38E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29470A-E35A-483F-93DB-B08E4FB9D0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7E55FB-3932-49B4-BE12-D86A2AB9A7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4AD0AC-DDF2-445D-A09A-6EB56DE99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1833E-C1DF-49A0-A18A-3190D93FC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C5954F-8C54-4CBB-AE76-9E1827BBDD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8F84FC-45C4-4A5C-8435-6ED93D5C3C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3E2454-0ABE-417B-B4A0-3D5600C6D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9F5223-14D9-4A5C-B625-BDA26379E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AC57-B47B-4ED3-A00C-FBA6283D4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76D88-DAD0-43D9-8D12-BB8FB2447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1768C-D5A7-4885-AE0B-F53AD49F3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3085B-69DC-4FA9-B847-CFDB388D1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364B3E-718B-4B88-B64D-30DD75DB7A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49259-BD5C-444B-8225-B0AAA565A8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56013C-8BE5-4B94-9E49-75391BA08F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9F0EC1-9469-4B6F-883A-756CDDFF8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2B0D9D-E6F7-428D-A93B-2F86B8BCDC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1C5DA1-303F-4AA8-AA9A-FA0509CCB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29C44F-5CF2-413E-A937-6B0505B142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1552-70A4-41A3-AA8C-5E4BB2BD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5C963-1018-46CD-B06C-0CDAB30005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966CBE-C388-44BB-9D21-33103B2D0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2B620-FFE4-4B4E-8F3E-8203C7E72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81ADA-98B4-43A9-9264-A1C9DDDFF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0769-F95B-4CB9-8094-6C546748F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99AC23-EB72-4693-AFFB-3126E7567E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C1F471-2BE0-41C6-B038-3FA44B39E1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18AC04-2E1F-4DB2-80D9-6942CE8342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9910C9-8712-4159-BC56-19E8FA6A6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C6216-9A34-4730-85EE-319F540B33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30A2-D612-46DA-B21E-7F28AB2A5D3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BD6D-FB0F-48D2-9F99-854C141F8337}"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8323-85F8-45BC-81F8-FBC98CF437B2}"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Click to edit the outline text format</a:t>
            </a:r>
            <a:endParaRPr b="0" lang="en-US" sz="3200" spc="-1" strike="noStrike">
              <a:solidFill>
                <a:srgbClr val="def5fa"/>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cond Outline Level</a:t>
            </a:r>
            <a:endParaRPr b="0" lang="en-US" sz="3200" spc="-1" strike="noStrike">
              <a:solidFill>
                <a:srgbClr val="def5fa"/>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Third Outline Level</a:t>
            </a:r>
            <a:endParaRPr b="0" lang="en-US" sz="3200" spc="-1" strike="noStrike">
              <a:solidFill>
                <a:srgbClr val="def5fa"/>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ourth Outline Level</a:t>
            </a:r>
            <a:endParaRPr b="0" lang="en-US" sz="3200" spc="-1" strike="noStrike">
              <a:solidFill>
                <a:srgbClr val="def5fa"/>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ifth Outline Level</a:t>
            </a:r>
            <a:endParaRPr b="0" lang="en-US" sz="3200" spc="-1" strike="noStrike">
              <a:solidFill>
                <a:srgbClr val="def5fa"/>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ixth Outline Level</a:t>
            </a:r>
            <a:endParaRPr b="0" lang="en-US" sz="3200" spc="-1" strike="noStrike">
              <a:solidFill>
                <a:srgbClr val="def5fa"/>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venth Outline Level</a:t>
            </a:r>
            <a:endParaRPr b="0" lang="en-US" sz="3200" spc="-1" strike="noStrike">
              <a:solidFill>
                <a:srgbClr val="def5fa"/>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ef5fa"/>
                </a:solidFill>
                <a:latin typeface="Franklin Gothic Medium"/>
              </a:rPr>
              <a:t>Click to edit the title text format</a:t>
            </a:r>
            <a:endParaRPr b="0" lang="en-US" sz="3600" spc="-1" strike="noStrike">
              <a:solidFill>
                <a:srgbClr val="def5fa"/>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67A3-CFAA-4C90-BDB6-3F27ACB119E9}"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5C67-951F-42A9-ADB3-14D3775FC5A5}"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6195-9AC9-4831-89A1-4FFB15248B19}"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C379-8DA6-4359-A9A4-ABADA91AB935}"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5EAE-EE6B-4D22-A982-67F1EDD710DA}"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E4D0-6EB2-4BC8-B4F7-329B408745A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2840" y="4681440"/>
            <a:ext cx="8802720" cy="171288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d3d3d"/>
                </a:solidFill>
                <a:latin typeface="Franklin Gothic Book"/>
              </a:rPr>
              <a:t>EDUCACION BASICA</a:t>
            </a:r>
            <a:endParaRPr b="0" lang="en-US" sz="2400" spc="-1" strike="noStrike">
              <a:solidFill>
                <a:srgbClr val="464646"/>
              </a:solidFill>
              <a:latin typeface="Franklin Gothic Book"/>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9"/>
                                        </p:tgtEl>
                                        <p:attrNameLst>
                                          <p:attrName>style.visibility</p:attrName>
                                        </p:attrNameLst>
                                      </p:cBhvr>
                                      <p:to>
                                        <p:strVal val="visible"/>
                                      </p:to>
                                    </p:set>
                                    <p:anim calcmode="lin" valueType="num">
                                      <p:cBhvr additive="base">
                                        <p:cTn id="7" dur="500" fill="hold"/>
                                        <p:tgtEl>
                                          <p:spTgt spid="399"/>
                                        </p:tgtEl>
                                        <p:attrNameLst>
                                          <p:attrName>ppt_x</p:attrName>
                                        </p:attrNameLst>
                                      </p:cBhvr>
                                      <p:tavLst>
                                        <p:tav tm="0">
                                          <p:val>
                                            <p:strVal val="#ppt_x"/>
                                          </p:val>
                                        </p:tav>
                                        <p:tav tm="100000">
                                          <p:val>
                                            <p:strVal val="#ppt_x"/>
                                          </p:val>
                                        </p:tav>
                                      </p:tavLst>
                                    </p:anim>
                                    <p:anim calcmode="lin" valueType="num">
                                      <p:cBhvr additive="base">
                                        <p:cTn id="8"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 Centrar la atención en los estudiantes y en sus procesos de aprendizaje. El centro y el referente fundamental del aprendizaje es el estudiante.</a:t>
            </a:r>
            <a:endParaRPr b="0" lang="en-US" sz="3200" spc="-1" strike="noStrike">
              <a:solidFill>
                <a:srgbClr val="464646"/>
              </a:solidFill>
              <a:latin typeface="Franklin Gothic Book"/>
            </a:endParaRPr>
          </a:p>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2. Planificar para potenciar el aprendizaje. La planificación es un elemento sustantivo de la práctica docente para potenciar el aprendizaje de los estudiantes hacia el desarrollo de competencias</a:t>
            </a:r>
            <a:endParaRPr b="0" lang="en-US" sz="3200" spc="-1" strike="noStrike">
              <a:solidFill>
                <a:srgbClr val="464646"/>
              </a:solidFill>
              <a:latin typeface="Franklin Gothic Book"/>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3. Generar ambientes de aprendizaje. Se denomina ambiente de aprendizaje al espacio donde se desarrolla la comunicación y las interacciones que posibilitan el aprendizaje.</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4. Trabajar en colaboración para construir el aprendizaje. El trabajo colaborativo alude a estudiantes y maestros, y orienta las acciones para el descubrimiento, la búsqueda de soluciones, coincidencias y diferencias, con el propósito de construir aprendizajes en colectivo.</a:t>
            </a:r>
            <a:endParaRPr b="0" lang="en-US" sz="3000" spc="-1" strike="noStrike">
              <a:solidFill>
                <a:srgbClr val="464646"/>
              </a:solidFill>
              <a:latin typeface="Franklin Gothic Book"/>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5. Poner énfasis en el desarrollo de competencias, el logro de los Estándares Curriculares y los aprendizajes esperado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Básica favorece el desarrollo de competencias, el logro de los Estándares Curriculares y los aprendizajes esperados, porque:</a:t>
            </a:r>
            <a:endParaRPr b="0" lang="en-US" sz="3200" spc="-1" strike="noStrike">
              <a:solidFill>
                <a:srgbClr val="464646"/>
              </a:solidFill>
              <a:latin typeface="Franklin Gothic Book"/>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Una competencia es la capacidad de responder a diferentes situaciones, e implica un saber hacer (habilidades) con saber (conocimiento), así como la valoración de las consecuencias de ese hacer (valores y actitudes).</a:t>
            </a:r>
            <a:endParaRPr b="0" lang="en-US" sz="3200" spc="-1" strike="noStrike">
              <a:solidFill>
                <a:srgbClr val="464646"/>
              </a:solidFill>
              <a:latin typeface="Franklin Gothic Book"/>
            </a:endParaRPr>
          </a:p>
        </p:txBody>
      </p:sp>
    </p:spTree>
  </p:cSld>
  <p:transition spd="slow">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Estándares Curriculares son descriptores de logro y definen aquello que los alumnos demostrarán al concluir un periodo escolar; sintetizan los aprendizajes esperados que, en los programas de educación primaria y secundaria, se organizan por asignatura-grado-bloque, y en educación preescolar por campo formativo-aspecto.</a:t>
            </a:r>
            <a:endParaRPr b="0" lang="en-US" sz="3200" spc="-1" strike="noStrike">
              <a:solidFill>
                <a:srgbClr val="464646"/>
              </a:solidFill>
              <a:latin typeface="Franklin Gothic Book"/>
            </a:endParaRPr>
          </a:p>
        </p:txBody>
      </p:sp>
    </p:spTree>
  </p:cSld>
  <p:transition spd="slow">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8"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aprendizajes esperados son indicadores de logro que, en términos de la temporalidad establecida en los programas de estudio, definen lo que se espera de cada alumno en términos de saber, saber hacer y saber ser; además, le dan concreción al trabajo docente al hacer constatable lo que los estudiantes logran, y constituyen un referente para la planificación y la evaluación en el aula.</a:t>
            </a:r>
            <a:endParaRPr b="0" lang="en-US" sz="3200" spc="-1" strike="noStrike">
              <a:solidFill>
                <a:srgbClr val="464646"/>
              </a:solidFill>
              <a:latin typeface="Franklin Gothic Book"/>
            </a:endParaRPr>
          </a:p>
        </p:txBody>
      </p:sp>
    </p:spTree>
  </p:cSld>
  <p:transition spd="slow">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0"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6. Usar materiales educativos para favorecer el aprendizaje. En la sociedad del siglo XXI los materiales educativos se han diversificado. Como sus formatos y medios de acceso requieren habilidades específicas para su uso, una escuela en la actualidad debe favorecer que la comunidad educativa, además de utilizar el libro de texto, emplee otros materiales para el aprendizaje permanente; algunos de ellos son:</a:t>
            </a:r>
            <a:endParaRPr b="0" lang="en-US" sz="3200" spc="-1" strike="noStrike">
              <a:solidFill>
                <a:srgbClr val="464646"/>
              </a:solidFill>
              <a:latin typeface="Franklin Gothic Book"/>
            </a:endParaRPr>
          </a:p>
        </p:txBody>
      </p:sp>
    </p:spTree>
  </p:cSld>
  <p:transition spd="slow">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Acervos para la Biblioteca Escolar y la Biblioteca de Aul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audiovisuales, multimedia e Internet.</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y recursos educativos informáticos.</a:t>
            </a:r>
            <a:endParaRPr b="0" lang="en-US" sz="3200" spc="-1" strike="noStrike">
              <a:solidFill>
                <a:srgbClr val="464646"/>
              </a:solidFill>
              <a:latin typeface="Franklin Gothic Book"/>
            </a:endParaRPr>
          </a:p>
        </p:txBody>
      </p:sp>
    </p:spTree>
  </p:cSld>
  <p:transition spd="slow">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7. Evaluar para aprender. El docente es el encargado de la evaluación de los aprendizajes de los alumnos y quien realiza el seguimiento, crea oportunidades de aprendizaje y hace modificaciones en su práctica para que éstos logren los aprendizajes establecidos en el Plan y los programas de estudio.</a:t>
            </a:r>
            <a:endParaRPr b="0" lang="en-US" sz="3200" spc="-1" strike="noStrike">
              <a:solidFill>
                <a:srgbClr val="464646"/>
              </a:solidFill>
              <a:latin typeface="Franklin Gothic Book"/>
            </a:endParaRPr>
          </a:p>
        </p:txBody>
      </p:sp>
    </p:spTree>
  </p:cSld>
  <p:transition spd="slow">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8. Favorecer la inclusión para atender a la diversidad. La educación es un derecho fundamental y una estrategia para ampliar las oportunidades, instrumentar las relaciones interculturales, reducir las desigualdades entre grupos sociales, cerrar brechas e impulsar la equidad.</a:t>
            </a:r>
            <a:endParaRPr b="0" lang="en-US" sz="3200" spc="-1" strike="noStrike">
              <a:solidFill>
                <a:srgbClr val="464646"/>
              </a:solidFill>
              <a:latin typeface="Franklin Gothic Book"/>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133200" y="268200"/>
            <a:ext cx="8864640" cy="1487520"/>
          </a:xfrm>
          <a:prstGeom prst="rect">
            <a:avLst/>
          </a:prstGeom>
          <a:ln w="0">
            <a:noFill/>
          </a:ln>
        </p:spPr>
      </p:pic>
      <p:sp>
        <p:nvSpPr>
          <p:cNvPr id="402" name=""/>
          <p:cNvSpPr txBox="1"/>
          <p:nvPr/>
        </p:nvSpPr>
        <p:spPr>
          <a:xfrm>
            <a:off x="457200" y="2492280"/>
            <a:ext cx="8229600" cy="3633840"/>
          </a:xfrm>
          <a:prstGeom prst="rect">
            <a:avLst/>
          </a:prstGeom>
          <a:noFill/>
          <a:ln w="0">
            <a:noFill/>
          </a:ln>
        </p:spPr>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464646"/>
                </a:solidFill>
                <a:latin typeface="Franklin Gothic Book"/>
              </a:rPr>
              <a:t>Antecedentes</a:t>
            </a:r>
            <a:endParaRPr b="0" lang="en-US" sz="4800" spc="-1" strike="noStrike">
              <a:solidFill>
                <a:srgbClr val="464646"/>
              </a:solidFill>
              <a:latin typeface="Franklin Gothic Book"/>
            </a:endParaRPr>
          </a:p>
        </p:txBody>
      </p:sp>
    </p:spTree>
  </p:cSld>
  <p:transition spd="slow">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9. Incorporar temas de relevancia social. Los temas de relevancia social se derivan de los retos de una sociedad que cambia constantemente y requiere que todos sus integrantes actúen con responsabilidad ante el medio natural y social, la vida y la salud, y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0. Renovar el pacto entre el estudiante, el docente, la familia y la escuela. Desde la perspectiva actual, se requiere renovar el pacto entre los diversos actores educativos, con el fin de promover normas que regulen la convivencia diaria, establezcan vínculos entre los derechos y las responsabilidades, y delimiten el ejercicio del poder y de la autoridad en la escuela con la participación de la familia.</a:t>
            </a:r>
            <a:endParaRPr b="0" lang="en-US" sz="3200" spc="-1" strike="noStrike">
              <a:solidFill>
                <a:srgbClr val="464646"/>
              </a:solidFill>
              <a:latin typeface="Franklin Gothic Book"/>
            </a:endParaRPr>
          </a:p>
        </p:txBody>
      </p:sp>
    </p:spTree>
  </p:cSld>
  <p:transition spd="slow">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2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42" name=""/>
          <p:cNvSpPr txBox="1"/>
          <p:nvPr/>
        </p:nvSpPr>
        <p:spPr>
          <a:xfrm>
            <a:off x="457200" y="620640"/>
            <a:ext cx="8229600" cy="5904000"/>
          </a:xfrm>
          <a:prstGeom prst="rect">
            <a:avLst/>
          </a:prstGeom>
          <a:noFill/>
          <a:ln w="0">
            <a:noFill/>
          </a:ln>
        </p:spPr>
        <p:txBody>
          <a:bodyPr lIns="90000" rIns="90000" tIns="46800" bIns="46800" anchor="t">
            <a:normAutofit fontScale="93000"/>
          </a:bodyPr>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1.11. Reorientar el liderazgo. Reorientar el liderazgo implica un compromiso personal y con el grupo, una relación horizontal en la que el diálogo informado favorezca la toma de decisiones centrada en el aprendizaje de los alumnos. </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se requiere mantener una relación de colegas.</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contribuir a la administración eficaz de la organización, produzca cambios necesarios y útiles. </a:t>
            </a: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esde esta perspectiva, el liderazgo requiere de la participación activa de estudiantes, docentes, directivos escolares, padres de familia y otros actores, en un clima de respeto, corresponsabilidad, transparencia y rendición de cuentas.</a:t>
            </a:r>
            <a:endParaRPr b="0" lang="en-US" sz="2700" spc="-1" strike="noStrike">
              <a:solidFill>
                <a:srgbClr val="464646"/>
              </a:solidFill>
              <a:latin typeface="Franklin Gothic Book"/>
            </a:endParaRPr>
          </a:p>
        </p:txBody>
      </p:sp>
    </p:spTree>
  </p:cSld>
  <p:transition spd="slow">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12. La tutoría y la asesoría académica a la escuela. La tutoría se concibe como el conjunto de alternativas de atención individualizada que parte de un diagnóstico. Sus destinatarios son estudiantes o docentes. En el caso de los estudiantes se dirige a quienes presentan rezago educativo o, por el contrario, poseen aptitudes sobresalientes; si es para los maestros, se implementa para solventar situaciones de dominio específico de los programas de estudio.</a:t>
            </a:r>
            <a:endParaRPr b="0" lang="en-US" sz="3000" spc="-1" strike="noStrike">
              <a:solidFill>
                <a:srgbClr val="464646"/>
              </a:solidFill>
              <a:latin typeface="Franklin Gothic Book"/>
            </a:endParaRPr>
          </a:p>
        </p:txBody>
      </p:sp>
    </p:spTree>
  </p:cSld>
  <p:transition spd="slow">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255600" y="268200"/>
            <a:ext cx="8437680" cy="4894200"/>
          </a:xfrm>
          <a:prstGeom prst="rect">
            <a:avLst/>
          </a:prstGeom>
          <a:ln w="0">
            <a:noFill/>
          </a:ln>
        </p:spPr>
      </p:pic>
      <p:pic>
        <p:nvPicPr>
          <p:cNvPr id="446" name="" descr=""/>
          <p:cNvPicPr/>
          <p:nvPr/>
        </p:nvPicPr>
        <p:blipFill>
          <a:blip r:embed="rId2"/>
          <a:stretch/>
        </p:blipFill>
        <p:spPr>
          <a:xfrm>
            <a:off x="304920" y="1554120"/>
            <a:ext cx="8686800" cy="4525920"/>
          </a:xfrm>
          <a:prstGeom prst="rect">
            <a:avLst/>
          </a:prstGeom>
          <a:ln w="0">
            <a:noFill/>
          </a:ln>
        </p:spPr>
      </p:pic>
    </p:spTree>
  </p:cSld>
  <p:transition spd="slow">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aprendizaje permanente. Para su desarrollo se requiere: habilidad lectora, integrarse a la cultura escrita, comunicarse en más de una lengua, habilidades digitales y aprender a aprender.</a:t>
            </a:r>
            <a:endParaRPr b="0" lang="en-US" sz="3200" spc="-1" strike="noStrike">
              <a:solidFill>
                <a:srgbClr val="464646"/>
              </a:solidFill>
              <a:latin typeface="Franklin Gothic Book"/>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la información. Su desarrollo requiere: identificar lo que se necesita saber; aprender a buscar; identificar, evaluar, seleccionar, organizar y sistematizar información; apropiarse de la información de manera crítica, utilizar y compartir información con sentido ético.</a:t>
            </a:r>
            <a:endParaRPr b="0" lang="en-US" sz="3200" spc="-1" strike="noStrike">
              <a:solidFill>
                <a:srgbClr val="464646"/>
              </a:solidFill>
              <a:latin typeface="Franklin Gothic Book"/>
            </a:endParaRPr>
          </a:p>
        </p:txBody>
      </p:sp>
    </p:spTree>
  </p:cSld>
  <p:transition spd="slow">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situaciones. Para su desarrollo se requiere: enfrentar el riesgo, la incertidumbre, plantear y llevar a buen término procedimientos; administrar el tiempo, propiciar cambios y afrontar los que se presenten; tomar decisiones y asumir sus consecuencias; manejar el fracaso, la frustración y la desilusión; actuar con autonomía en el diseño y desarrollo de proyectos de vida.</a:t>
            </a:r>
            <a:endParaRPr b="0" lang="en-US" sz="3200" spc="-1" strike="noStrike">
              <a:solidFill>
                <a:srgbClr val="464646"/>
              </a:solidFill>
              <a:latin typeface="Franklin Gothic Book"/>
            </a:endParaRPr>
          </a:p>
        </p:txBody>
      </p:sp>
    </p:spTree>
  </p:cSld>
  <p:transition spd="slow">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convivencia. Su desarrollo requiere: empatía, relacionarse armónicamente con otros y la naturaleza; ser asertivo; trabajar de manera colaborativa; tomar acuerdos y negociar con otros; crecer con los demás; reconocer y valorar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6" name=""/>
          <p:cNvSpPr txBox="1"/>
          <p:nvPr/>
        </p:nvSpPr>
        <p:spPr>
          <a:xfrm>
            <a:off x="304920" y="1554120"/>
            <a:ext cx="8686800" cy="452592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vida en sociedad. Para su desarrollo se requiere: decidir y actuar con juicio crítico frente a los valores y las normas sociales y culturales; proceder a favor de la democracia, la libertad, la paz, el respeto a la legalidad y a los 39 derechos humanos; participar tomando en cuenta las implicaciones sociales del uso de la tecnología; combatir la discriminación y el racismo, y conciencia de pertenencia a su cultura, a su país y al mundo.</a:t>
            </a:r>
            <a:endParaRPr b="0" lang="en-US" sz="3200" spc="-1" strike="noStrike">
              <a:solidFill>
                <a:srgbClr val="464646"/>
              </a:solidFill>
              <a:latin typeface="Franklin Gothic Book"/>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6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4" name=""/>
          <p:cNvSpPr txBox="1"/>
          <p:nvPr/>
        </p:nvSpPr>
        <p:spPr>
          <a:xfrm>
            <a:off x="457200" y="692280"/>
            <a:ext cx="8229600" cy="5433840"/>
          </a:xfrm>
          <a:prstGeom prst="rect">
            <a:avLst/>
          </a:prstGeom>
          <a:noFill/>
          <a:ln w="0">
            <a:noFill/>
          </a:ln>
        </p:spPr>
        <p:txBody>
          <a:bodyPr lIns="90000" rIns="90000" tIns="46800" bIns="46800" anchor="t">
            <a:normAutofit fontScale="94000"/>
          </a:bodyPr>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Recupera la visión de José Vasconcelos  reconocer, en la universalidad de la educación, el espacio propicio para construir y recrear nuestro ser como mexicanos.</a:t>
            </a:r>
            <a:endParaRPr b="0" lang="en-US" sz="3000" spc="-1" strike="noStrike">
              <a:solidFill>
                <a:srgbClr val="464646"/>
              </a:solidFill>
              <a:latin typeface="Franklin Gothic Book"/>
            </a:endParaRPr>
          </a:p>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El esfuerzo metódico y constante desplegado para organizar el Plan de once años, impulsado por Jaime Torres Bodet, que logró movilizar recursos económicos, fiscales, políticos y sociales, para proyectar en su momento una meta, sin duda necesaria, pero que parecía inalcanzable: la expansión y el mejoramiento de la educación primaria, la fundación del Instituto de Capacitación del Magisterio y la Comisión Nacional de Libros de Texto Gratuitos</a:t>
            </a:r>
            <a:endParaRPr b="0" lang="en-US" sz="3000" spc="-1" strike="noStrike">
              <a:solidFill>
                <a:srgbClr val="464646"/>
              </a:solidFill>
              <a:latin typeface="Franklin Gothic Book"/>
            </a:endParaRPr>
          </a:p>
        </p:txBody>
      </p:sp>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1 Título" descr=""/>
          <p:cNvPicPr/>
          <p:nvPr/>
        </p:nvPicPr>
        <p:blipFill>
          <a:blip r:embed="rId1"/>
          <a:stretch/>
        </p:blipFill>
        <p:spPr>
          <a:xfrm>
            <a:off x="133200" y="268200"/>
            <a:ext cx="8864640" cy="148752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erfil de egreso define el tipo de alumno que se espera formar en el transcurso de la escolaridad básica y tiene un papel preponderante en el proceso de articulación de los tres niveles (preescolar, primaria y secundaria). Se expresa en términos de rasgos individuales y sus razones de ser son:</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Definir el tipo de ciudadano que se espera formar a lo largo de la Educación Básica.</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Ser un referente común para la definición de los componentes curriculares.</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Ser un indicador para valorar la eficacia del proceso educativo.</a:t>
            </a:r>
            <a:endParaRPr b="0" lang="en-US" sz="2700" spc="-1" strike="noStrike">
              <a:solidFill>
                <a:srgbClr val="464646"/>
              </a:solidFill>
              <a:latin typeface="Franklin Gothic Book"/>
            </a:endParaRPr>
          </a:p>
        </p:txBody>
      </p:sp>
    </p:spTree>
  </p:cSld>
  <p:transition spd="slow">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0"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Utiliza el lenguaje materno, oral y escrito para comunicarse con claridad y fluidez, e interactuar en distintos contextos sociales y culturales; además, posee herramientas básicas para comunicarse en Inglés.</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Argumenta y razona al analizar situaciones, identifica problemas, formula preguntas, emite juicios, propone soluciones, aplica estrategias y toma decisiones. Valora los razonamientos y la evidencia proporcionados por otros y puede modificar, en consecuencia, los propios puntos de vista.</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Busca, selecciona, analiza, evalúa y utiliza la información proveniente de diversas fuentes.</a:t>
            </a:r>
            <a:endParaRPr b="0" lang="en-US" sz="2700" spc="-1" strike="noStrike">
              <a:solidFill>
                <a:srgbClr val="464646"/>
              </a:solidFill>
              <a:latin typeface="Franklin Gothic Book"/>
            </a:endParaRPr>
          </a:p>
        </p:txBody>
      </p:sp>
    </p:spTree>
  </p:cSld>
  <p:transition spd="slow">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89720"/>
            <a:ext cx="8686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62" name=""/>
          <p:cNvSpPr txBox="1"/>
          <p:nvPr/>
        </p:nvSpPr>
        <p:spPr>
          <a:xfrm>
            <a:off x="457200" y="620640"/>
            <a:ext cx="8229600" cy="56167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 Interpreta y explica procesos sociales, económicos, financieros, culturales y naturales para tomar decisiones individuales o colectivas que favorezcan a todo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Conoce y ejerce los derechos humanos y los valores que favorecen la vida democrática; actúa con responsabilidad social y apego a la ley. </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f) Asume y practica la interculturalidad como riqueza y forma de convivencia en la diversidad social, cultural y lingüística.</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g) Conoce y valora sus características y potencialidades como ser humano; sabe trabajar de manera colaborativa; reconoce, respeta y aprecia la diversidad de capacidades en los otros, y emprende y se esfuerza por lograr proyectos personales o colectivos.</a:t>
            </a:r>
            <a:endParaRPr b="0" lang="en-US" sz="2700" spc="-1" strike="noStrike">
              <a:solidFill>
                <a:srgbClr val="464646"/>
              </a:solidFill>
              <a:latin typeface="Franklin Gothic Book"/>
            </a:endParaRPr>
          </a:p>
        </p:txBody>
      </p:sp>
    </p:spTree>
  </p:cSld>
  <p:transition spd="slow">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4"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h) Promueve y asume el cuidado de la salud y del ambiente como condiciones que favorecen un estilo de vida activo y saludable.</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i) Aprovecha los recursos tecnológicos a su alcance como medios para comunicarse, obtener información y construir conocimiento.</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j) Reconoce diversas manifestaciones del arte, aprecia la dimensión estética y es capaz de expresarse artísticamente.</a:t>
            </a: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1 Título" descr=""/>
          <p:cNvPicPr/>
          <p:nvPr/>
        </p:nvPicPr>
        <p:blipFill>
          <a:blip r:embed="rId1"/>
          <a:stretch/>
        </p:blipFill>
        <p:spPr>
          <a:xfrm>
            <a:off x="133200" y="268200"/>
            <a:ext cx="8864640" cy="148752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Mapa curricular de la Educación Básica se  organiza en cuatro campos de formación, que permiten visualizar de manera gráfica la articulación curricular. </a:t>
            </a:r>
            <a:endParaRPr b="0" lang="en-US" sz="2700" spc="-1" strike="noStrike">
              <a:solidFill>
                <a:srgbClr val="464646"/>
              </a:solidFill>
              <a:latin typeface="Franklin Gothic Book"/>
            </a:endParaRPr>
          </a:p>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l Mapa curricular puede observarse, de manera horizontal, la secuencia y gradualidad de las asignaturas que constituyen la Educación Básica. Por su parte, la organización vertical en periodos escolares indica la progresión de los Estándares Curriculares de Español, Matemáticas, Ciencias, Segunda Lengua: Inglés y Habilidades Digitales. </a:t>
            </a:r>
            <a:endParaRPr b="0" lang="en-US" sz="2700" spc="-1" strike="noStrike">
              <a:solidFill>
                <a:srgbClr val="464646"/>
              </a:solidFill>
              <a:latin typeface="Franklin Gothic Book"/>
            </a:endParaRPr>
          </a:p>
        </p:txBody>
      </p:sp>
    </p:spTree>
  </p:cSld>
  <p:transition spd="slow">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68" name="3 Marcador de contenido" descr="8i51A.png"/>
          <p:cNvPicPr/>
          <p:nvPr/>
        </p:nvPicPr>
        <p:blipFill>
          <a:blip r:embed="rId1"/>
          <a:stretch/>
        </p:blipFill>
        <p:spPr>
          <a:xfrm>
            <a:off x="324000" y="692280"/>
            <a:ext cx="8424720" cy="5400720"/>
          </a:xfrm>
          <a:prstGeom prst="rect">
            <a:avLst/>
          </a:prstGeom>
          <a:ln w="0">
            <a:noFill/>
          </a:ln>
        </p:spPr>
      </p:pic>
    </p:spTree>
  </p:cSld>
  <p:transition spd="slow">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1 Título" descr=""/>
          <p:cNvPicPr/>
          <p:nvPr/>
        </p:nvPicPr>
        <p:blipFill>
          <a:blip r:embed="rId1"/>
          <a:stretch/>
        </p:blipFill>
        <p:spPr>
          <a:xfrm>
            <a:off x="255600" y="268200"/>
            <a:ext cx="8437680" cy="4894200"/>
          </a:xfrm>
          <a:prstGeom prst="rect">
            <a:avLst/>
          </a:prstGeom>
          <a:ln w="0">
            <a:noFill/>
          </a:ln>
        </p:spPr>
      </p:pic>
      <p:sp>
        <p:nvSpPr>
          <p:cNvPr id="470" name=""/>
          <p:cNvSpPr txBox="1"/>
          <p:nvPr/>
        </p:nvSpPr>
        <p:spPr>
          <a:xfrm>
            <a:off x="457200" y="5157720"/>
            <a:ext cx="8229600" cy="968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2"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indígena se imparte en 22 000 planteles. La diversidad y el multilingüismo obligan a crear Marcos Curriculares y, con base en ellos, se desarrollan los programas de estudio y se articulan con la diversidad social, cultural y lingüística, al tiempo que deben incluir contenidos propios del acervo cultural de los pueblos originarios y de las experiencias de los migrantes que atiende la Educación Básica</a:t>
            </a:r>
            <a:endParaRPr b="0" lang="en-US" sz="3200" spc="-1" strike="noStrike">
              <a:solidFill>
                <a:srgbClr val="464646"/>
              </a:solidFill>
              <a:latin typeface="Franklin Gothic Book"/>
            </a:endParaRPr>
          </a:p>
        </p:txBody>
      </p:sp>
    </p:spTree>
  </p:cSld>
  <p:transition spd="slow">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4"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Marcos Curriculares atienden la diversidad como dispositivos e instrumentos políticos, pedagógicos y didácticos que incluyen y vinculan los aprendizajes escolares que la sociedad mexicana del siglo XXI requiere, con la que los pueblos y las comunidades indígenas y migrantes sustentan para desarrollarse en lo educativo, desde su representación del mundo y sus contextos materiales concretos.</a:t>
            </a:r>
            <a:endParaRPr b="0" lang="en-US" sz="3200" spc="-1" strike="noStrike">
              <a:solidFill>
                <a:srgbClr val="464646"/>
              </a:solidFill>
              <a:latin typeface="Franklin Gothic Book"/>
            </a:endParaRPr>
          </a:p>
        </p:txBody>
      </p:sp>
    </p:spTree>
  </p:cSld>
  <p:transition spd="slow">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1 Título" descr=""/>
          <p:cNvPicPr/>
          <p:nvPr/>
        </p:nvPicPr>
        <p:blipFill>
          <a:blip r:embed="rId1"/>
          <a:stretch/>
        </p:blipFill>
        <p:spPr>
          <a:xfrm>
            <a:off x="133200" y="268200"/>
            <a:ext cx="8864640" cy="148752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propósito de creación de la asignatura de Lengua Indígena consiste en incorporar un espacio curricular para que los alumnos estudien, analicen y reflexionen sobre su lengua nativa, a partir de la apropiación de las prácticas sociales del lenguaje, orales y escritas, en los diversos ámbitos de la vida social, así como cumplir con el mandato constitucional sobre los derechos culturales y lingüísticos de los pueblos indígenas</a:t>
            </a:r>
            <a:endParaRPr b="0" lang="en-US" sz="3200" spc="-1" strike="noStrike">
              <a:solidFill>
                <a:srgbClr val="464646"/>
              </a:solidFill>
              <a:latin typeface="Franklin Gothic Book"/>
            </a:endParaRPr>
          </a:p>
          <a:p>
            <a:pPr marL="335880" indent="-33588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20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6" name=""/>
          <p:cNvSpPr txBox="1"/>
          <p:nvPr/>
        </p:nvSpPr>
        <p:spPr>
          <a:xfrm>
            <a:off x="457200" y="404640"/>
            <a:ext cx="8229600" cy="6048720"/>
          </a:xfrm>
          <a:prstGeom prst="rect">
            <a:avLst/>
          </a:prstGeom>
          <a:noFill/>
          <a:ln w="0">
            <a:noFill/>
          </a:ln>
        </p:spPr>
        <p:txBody>
          <a:bodyPr lIns="90000" rIns="90000" tIns="46800" bIns="46800" anchor="t">
            <a:normAutofit fontScale="95000"/>
          </a:bodyPr>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a visión de futuro y el impulso para generar instituciones que trascendieron en el tiempo, que tuvieron Víctor Bravo Ahuja y Fernando Solana Morale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rimero al fundar el Consejo Nacional de Ciencia y Tecnología, la Unidad Interdisciplinaria de Ingeniería y Ciencias Sociales y Administrativas en el Instituto Politécnico Nacional; el Colegio de Bachilleres; la Universidad Autónoma Metropolitana, y la Biblioteca Nacional de Ciencia y Tecnología.</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Y el segundo para la creación de las delegaciones de la Secretaría de Educación Pública del Gobierno Federal en todo el país; el Colegio Nacional de Educación Profesional Técnica, y del InstitutoNacional para la Educación de los Adulto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demás del impulso liberal y humanista de Jesús Reyes Heroles.</a:t>
            </a:r>
            <a:endParaRPr b="0" lang="en-US" sz="2700" spc="-1" strike="noStrike">
              <a:solidFill>
                <a:srgbClr val="464646"/>
              </a:solidFill>
              <a:latin typeface="Franklin Gothic Book"/>
            </a:endParaRPr>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educación en y para la diversidad incluye el derecho de los pueblos indígenas a hablar su lengua, y el de la niñez a recibir una educación bilingüe que contribuya al desarrollo de su lengua materna y favorezca la apropiación de una segunda lengua, conaprendizajes para la vida social y escolar, consolidando el bilingüismo que dé pauta al acceso a una segunda lengua o a varias segundas lenguas adicionales a la lengua materna.</a:t>
            </a:r>
            <a:endParaRPr b="0" lang="en-US" sz="3000" spc="-1" strike="noStrike">
              <a:solidFill>
                <a:srgbClr val="464646"/>
              </a:solidFill>
              <a:latin typeface="Franklin Gothic Book"/>
            </a:endParaRPr>
          </a:p>
          <a:p>
            <a:pPr marL="335880" indent="-33588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s prácticas sociales del lenguaje en la asignatura de Lengua Indígena se organizan en cuatro ámbit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La familia y comunidad.</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a tradición oral, los testimonios históricos y la literatura.</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La vida intercomunitaria y la relación con otros puebl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l estudio y la difusión del conocimien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1 Título" descr=""/>
          <p:cNvPicPr/>
          <p:nvPr/>
        </p:nvPicPr>
        <p:blipFill>
          <a:blip r:embed="rId1"/>
          <a:stretch/>
        </p:blipFill>
        <p:spPr>
          <a:xfrm>
            <a:off x="133200" y="268200"/>
            <a:ext cx="8864640" cy="148752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cuatro principios que la Unesco estableció en la Cumbre Mundial sobre l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Sociedad de la Información orientan la formulación de políticas, y son los siguientes:</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Acceso universal a la informac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ibertad de expres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Diversidad cultural y lingüístic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ducación para todos.</a:t>
            </a:r>
            <a:endParaRPr b="0" lang="en-US" sz="3200" spc="-1" strike="noStrike">
              <a:solidFill>
                <a:srgbClr val="464646"/>
              </a:solidFill>
              <a:latin typeface="Franklin Gothic Book"/>
            </a:endParaRPr>
          </a:p>
        </p:txBody>
      </p:sp>
    </p:spTree>
  </p:cSld>
  <p:transition spd="slow">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erfiles de los estudiantes competentes en uso de TIC deben asociarse a los periodos escolares de la Educación Básica y al modelo de equipamiento. Para cumplir los Estándares de Habilidades Digitales se han considerado dos estrategias:</a:t>
            </a:r>
            <a:endParaRPr b="0" lang="en-US" sz="3200" spc="-1" strike="noStrike">
              <a:solidFill>
                <a:srgbClr val="464646"/>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Aulas de medios y Aulas telemáticas.</a:t>
            </a:r>
            <a:endParaRPr b="0" lang="en-US" sz="3200" spc="-1" strike="noStrike">
              <a:solidFill>
                <a:srgbClr val="464646"/>
              </a:solidFill>
              <a:latin typeface="Franklin Gothic Book"/>
            </a:endParaRPr>
          </a:p>
        </p:txBody>
      </p:sp>
    </p:spTree>
  </p:cSld>
  <p:transition spd="slow">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86" name="" descr=""/>
          <p:cNvPicPr/>
          <p:nvPr/>
        </p:nvPicPr>
        <p:blipFill>
          <a:blip r:embed="rId1"/>
          <a:stretch/>
        </p:blipFill>
        <p:spPr>
          <a:xfrm>
            <a:off x="304920" y="1554120"/>
            <a:ext cx="8686800" cy="4525920"/>
          </a:xfrm>
          <a:prstGeom prst="rect">
            <a:avLst/>
          </a:prstGeom>
          <a:ln w="0">
            <a:noFill/>
          </a:ln>
        </p:spPr>
      </p:pic>
      <p:graphicFrame>
        <p:nvGraphicFramePr>
          <p:cNvPr id="487" name=""/>
          <p:cNvGraphicFramePr/>
          <p:nvPr/>
        </p:nvGraphicFramePr>
        <p:xfrm>
          <a:off x="468360" y="549360"/>
          <a:ext cx="8218440" cy="5688000"/>
        </p:xfrm>
        <a:graphic>
          <a:graphicData uri="http://schemas.openxmlformats.org/drawingml/2006/table">
            <a:tbl>
              <a:tblPr/>
              <a:tblGrid>
                <a:gridCol w="3676680"/>
                <a:gridCol w="454176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eriodo escolar</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Modelo de equipo amiento para el logr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 los Estándares de Habilidades Digitales</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49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gundo periodo escolar, al concluir el tercer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de medios y laboratorios de cómput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onde los 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84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Tercer periodo escolar, al concluir el sexto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30,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Las autoridades educativas estatal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dicionan cinco dispositivos por aul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15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uarto periodo escolar, al concluir el tercer grado de secund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1,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p:transition spd="slow">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estrategia HDT considera los siguientes componentes:</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 </a:t>
            </a:r>
            <a:r>
              <a:rPr b="0" lang="es-MX" sz="3000" spc="-1" strike="noStrike">
                <a:solidFill>
                  <a:srgbClr val="464646"/>
                </a:solidFill>
                <a:latin typeface="Franklin Gothic Book"/>
              </a:rPr>
              <a:t>Pedagógico. Comprende el desarrollo de materiales educativos: objetos de aprendizaje, planeaciones de clase sugeridas y reactivos que faciliten el manejo de los estándares planteados en los programas de estudio.</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Gestión. Su objetivo es organizar, sistematizar y compartir la información en el programa HDT (aula, escuela, estado y federación).</a:t>
            </a:r>
            <a:endParaRPr b="0" lang="en-US" sz="3000" spc="-1" strike="noStrike">
              <a:solidFill>
                <a:srgbClr val="464646"/>
              </a:solidFill>
              <a:latin typeface="Franklin Gothic Book"/>
            </a:endParaRPr>
          </a:p>
          <a:p>
            <a:pPr marL="332640" indent="-33264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Acompañamiento. Su propósito es apoyar a los maestros, resolver sus dudas y orientarlos para el mejor aprovechamiento de la tecnología en el entorno educativo. Incluye todos los esfuerzos de formación en el uso de tecnologías en la educación y la certificación.</a:t>
            </a:r>
            <a:endParaRPr b="0" lang="en-US" sz="2700" spc="-1" strike="noStrike">
              <a:solidFill>
                <a:srgbClr val="464646"/>
              </a:solidFill>
              <a:latin typeface="Franklin Gothic Book"/>
            </a:endParaRPr>
          </a:p>
          <a:p>
            <a:pPr marL="329040" indent="-32904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onectividad e infraestructura. Considera todo el equipamiento, la conectividad y los servicios necesarios para que las aulas operen correctamente, y favorece un mayor nivel de interacción niño-computadora para avanzar en la disminución de la brecha de acceso a la información.</a:t>
            </a:r>
            <a:endParaRPr b="0" lang="en-US" sz="2700" spc="-1" strike="noStrike">
              <a:solidFill>
                <a:srgbClr val="464646"/>
              </a:solidFill>
              <a:latin typeface="Franklin Gothic Book"/>
            </a:endParaRPr>
          </a:p>
        </p:txBody>
      </p:sp>
    </p:spTree>
  </p:cSld>
  <p:transition spd="slow">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1 Título" descr=""/>
          <p:cNvPicPr/>
          <p:nvPr/>
        </p:nvPicPr>
        <p:blipFill>
          <a:blip r:embed="rId1"/>
          <a:stretch/>
        </p:blipFill>
        <p:spPr>
          <a:xfrm>
            <a:off x="133200" y="268200"/>
            <a:ext cx="8864640" cy="1487520"/>
          </a:xfrm>
          <a:prstGeom prst="rect">
            <a:avLst/>
          </a:prstGeom>
          <a:ln w="0">
            <a:noFill/>
          </a:ln>
        </p:spPr>
      </p:pic>
      <p:sp>
        <p:nvSpPr>
          <p:cNvPr id="493"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propone los Estándares de Gestión para la Educación Básica, como normas que orienten la organización escolar; es decir, cómo deben ser las prácticas y las relaciones de cada actor escolar: directivos, maestros, alumnos, padres de familia y otros actores sociales. </a:t>
            </a:r>
            <a:endParaRPr b="0" lang="en-US" sz="3000" spc="-1" strike="noStrike">
              <a:solidFill>
                <a:srgbClr val="464646"/>
              </a:solidFill>
              <a:latin typeface="Franklin Gothic Book"/>
            </a:endParaRPr>
          </a:p>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gestión con bases democráticas en que la toma de decisiones se centre en el aprendizaje de los alumnos, con corresponsabilidad, transparencia y rendición de cuentas.</a:t>
            </a:r>
            <a:endParaRPr b="0" lang="en-US" sz="3000" spc="-1" strike="noStrike">
              <a:solidFill>
                <a:srgbClr val="464646"/>
              </a:solidFill>
              <a:latin typeface="Franklin Gothic Book"/>
            </a:endParaRPr>
          </a:p>
        </p:txBody>
      </p:sp>
    </p:spTree>
  </p:cSld>
  <p:transition spd="slow">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busca recuperar el papel relevante de la escuela pública para dar respuesta a una sociedad que demanda ciudadanos competentes que enfrenten y superen los desafíos del siglo XXI; es decir, una escuela que se posicione como el espacio idóneo para la ampliación de oportunidades de aprendizaje, con ambientes propicios que atiendan a la diversidad y de manera diferenciada, y favorezca la convivencia armónica, el respeto, la solidaridad, la salud y la seguridad.</a:t>
            </a:r>
            <a:endParaRPr b="0" lang="en-US" sz="3000" spc="-1" strike="noStrike">
              <a:solidFill>
                <a:srgbClr val="464646"/>
              </a:solidFill>
              <a:latin typeface="Franklin Gothic Book"/>
            </a:endParaRPr>
          </a:p>
        </p:txBody>
      </p:sp>
    </p:spTree>
  </p:cSld>
  <p:transition spd="slow">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7"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os Estándares de Gestión para la Educación Básica, propone,  normas que orienten la organización escolar; es decir, cómo deben ser las prácticas y las relaciones de cada actor escolar: directivos, maestros, alumnos, padres de familia y otros actores sociale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ste sentido, una nueva gestión implica una comunicación eficaz y una reorganización del colectivo escolar. Cada comunidad organizada en el espacio de la escuela favorece la visión compartida, el cumplimiento de la misión de la escuela pública, el diseño de objetivos, estrategias y metas, así como el compromiso para su ejecución y logro.</a:t>
            </a:r>
            <a:endParaRPr b="0" lang="en-US" sz="2700" spc="-1" strike="noStrike">
              <a:solidFill>
                <a:srgbClr val="464646"/>
              </a:solidFill>
              <a:latin typeface="Franklin Gothic Book"/>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Acuerdo Nacional para la Modernización de la Educación Básica como referente para el cambio de la educación y el sistema educativo.</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Compromiso Social por la Calidad de la Educación.</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Alianza por la Calidad de la Educación.</a:t>
            </a:r>
            <a:endParaRPr b="0" lang="en-US" sz="3200" spc="-1" strike="noStrike">
              <a:solidFill>
                <a:srgbClr val="464646"/>
              </a:solidFill>
              <a:latin typeface="Franklin Gothic Book"/>
            </a:endParaRPr>
          </a:p>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1 Título" descr=""/>
          <p:cNvPicPr/>
          <p:nvPr/>
        </p:nvPicPr>
        <p:blipFill>
          <a:blip r:embed="rId1"/>
          <a:stretch/>
        </p:blipFill>
        <p:spPr>
          <a:xfrm>
            <a:off x="133200" y="23760"/>
            <a:ext cx="8864640" cy="1487520"/>
          </a:xfrm>
          <a:prstGeom prst="rect">
            <a:avLst/>
          </a:prstGeom>
          <a:ln w="0">
            <a:noFill/>
          </a:ln>
        </p:spPr>
      </p:pic>
      <p:sp>
        <p:nvSpPr>
          <p:cNvPr id="49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 necesario poner en operación una instancia intermedia entre la escuela y la autoridad estatal, que integre sus funciones en un modelo de gestión estratégica que establezca la gestión por resultados e, inclusive, la inversión pública por resultados, situando a la escuela en el centro del sistema educativo.</a:t>
            </a:r>
            <a:endParaRPr b="0" lang="en-US" sz="3200" spc="-1" strike="noStrike">
              <a:solidFill>
                <a:srgbClr val="464646"/>
              </a:solidFill>
              <a:latin typeface="Franklin Gothic Book"/>
            </a:endParaRPr>
          </a:p>
        </p:txBody>
      </p:sp>
    </p:spTree>
  </p:cSld>
  <p:transition spd="slow">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Creación de Regiones para la Gestión de la Educación Básica (RGEB).</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s RGEB serán una unidad de apoyo próximo a la escuela, donde la gestión tendrá la visión integral de la Educación Básica y un enfoque de desarrollo regional. Para este propósito resulta fundamental aglutinar los equipos de supervisión y las instancias de formación con asesores técnico-pedagógicos, que realicen la función de asesoría y acompañamiento a las escuelas.</a:t>
            </a:r>
            <a:endParaRPr b="0" lang="en-US" sz="3000" spc="-1" strike="noStrike">
              <a:solidFill>
                <a:srgbClr val="464646"/>
              </a:solidFill>
              <a:latin typeface="Franklin Gothic Book"/>
            </a:endParaRPr>
          </a:p>
        </p:txBody>
      </p:sp>
    </p:spTree>
  </p:cSld>
  <p:transition spd="slow">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 la asesoría académica en la escuel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odelos de gestión específicos para cada contex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para avanzar hacia una Escuela de Tiempo Comple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en jornada ampliad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propuesto en las escuelas de medio tiempo.</a:t>
            </a:r>
            <a:endParaRPr b="0" lang="en-US" sz="3200" spc="-1" strike="noStrike">
              <a:solidFill>
                <a:srgbClr val="464646"/>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1 Título" descr=""/>
          <p:cNvPicPr/>
          <p:nvPr/>
        </p:nvPicPr>
        <p:blipFill>
          <a:blip r:embed="rId1"/>
          <a:stretch/>
        </p:blipFill>
        <p:spPr>
          <a:xfrm>
            <a:off x="133200" y="268200"/>
            <a:ext cx="8864640" cy="1487520"/>
          </a:xfrm>
          <a:prstGeom prst="rect">
            <a:avLst/>
          </a:prstGeom>
          <a:ln w="0">
            <a:noFill/>
          </a:ln>
        </p:spPr>
      </p:pic>
      <p:sp>
        <p:nvSpPr>
          <p:cNvPr id="505" name=""/>
          <p:cNvSpPr txBox="1"/>
          <p:nvPr/>
        </p:nvSpPr>
        <p:spPr>
          <a:xfrm>
            <a:off x="304920" y="1554120"/>
            <a:ext cx="8686800" cy="5114880"/>
          </a:xfrm>
          <a:prstGeom prst="rect">
            <a:avLst/>
          </a:prstGeom>
          <a:noFill/>
          <a:ln w="0">
            <a:noFill/>
          </a:ln>
        </p:spPr>
        <p:txBody>
          <a:bodyPr lIns="90000" rIns="90000" tIns="46800" bIns="46800" anchor="t">
            <a:normAutofit fontScale="99000"/>
          </a:bodyPr>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Toma como referente la evaluación PISA.</a:t>
            </a:r>
            <a:endParaRPr b="0" lang="en-US" sz="3000" spc="-1" strike="noStrike">
              <a:solidFill>
                <a:srgbClr val="464646"/>
              </a:solidFill>
              <a:latin typeface="Franklin Gothic Book"/>
            </a:endParaRPr>
          </a:p>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os Estándares Curriculares, como ya se describió, expresan lo que los alumnos deben saber y ser capaces de hacer en los cuatro periodos escolares: al concluir el preescolar; al finalizar el tercer grado de primaria; al término de la primaria (sexto grado), y al concluir la educación secundaria. Cabe mencionar que cada conjunto de estándares, correspondiente a cada periodo, refleja también el currículo de los grados escolares que le preceden.</a:t>
            </a:r>
            <a:endParaRPr b="0" lang="en-US" sz="3000" spc="-1" strike="noStrike">
              <a:solidFill>
                <a:srgbClr val="464646"/>
              </a:solidFill>
              <a:latin typeface="Franklin Gothic Book"/>
            </a:endParaRPr>
          </a:p>
        </p:txBody>
      </p:sp>
    </p:spTree>
  </p:cSld>
  <p:transition spd="slow">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Español</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nacionales de habilidad lector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Matemátic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Cienci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Habilidades Digitales</a:t>
            </a:r>
            <a:endParaRPr b="0" lang="en-US" sz="3200" spc="-1" strike="noStrike">
              <a:solidFill>
                <a:srgbClr val="464646"/>
              </a:solidFill>
              <a:latin typeface="Franklin Gothic Book"/>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1 Título" descr=""/>
          <p:cNvPicPr/>
          <p:nvPr/>
        </p:nvPicPr>
        <p:blipFill>
          <a:blip r:embed="rId1"/>
          <a:stretch/>
        </p:blipFill>
        <p:spPr>
          <a:xfrm>
            <a:off x="133200" y="450720"/>
            <a:ext cx="8864640" cy="1060560"/>
          </a:xfrm>
          <a:prstGeom prst="rect">
            <a:avLst/>
          </a:prstGeom>
          <a:ln w="0">
            <a:noFill/>
          </a:ln>
        </p:spPr>
      </p:pic>
      <p:sp>
        <p:nvSpPr>
          <p:cNvPr id="410" name=""/>
          <p:cNvSpPr txBox="1"/>
          <p:nvPr/>
        </p:nvSpPr>
        <p:spPr>
          <a:xfrm>
            <a:off x="457200" y="1268280"/>
            <a:ext cx="8229600" cy="4857840"/>
          </a:xfrm>
          <a:prstGeom prst="rect">
            <a:avLst/>
          </a:prstGeom>
          <a:noFill/>
          <a:ln w="0">
            <a:noFill/>
          </a:ln>
        </p:spPr>
        <p:txBody>
          <a:bodyPr lIns="90000" rIns="90000" tIns="46800" bIns="46800" anchor="t">
            <a:normAutofit fontScale="95000"/>
          </a:bodyPr>
          <a:p>
            <a:pPr marL="325800" indent="-325800" algn="just">
              <a:lnSpc>
                <a:spcPct val="80000"/>
              </a:lnSpc>
              <a:spcBef>
                <a:spcPts val="624"/>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464646"/>
                </a:solidFill>
                <a:latin typeface="Franklin Gothic Book"/>
              </a:rPr>
              <a:t>Tomando como antecedente las reformas curriculares determinadas en los acuerdos números 348 por el que se determina el Programa de Educación Preescolar, 181 por el que se establece el nuevo Plan y programas de estudio para educación primaria, y 384 por el que se establece el nuevo Plan y programas de estudio para educación secundaria, publicados respectivamente, en el Diario Oficial de la Federación el 27 de octubre de 2004, el 27 de agosto de 1993 y el 26 de mayo de 2006, se establecieron las condiciones para la revisión de los planes de estudio y del conjunto de programas de los niveles de preescolar, primaria y secundaria con el fin de propiciar su congruencia con los rasgos del perfil de egreso deseable para la Educación Básica; es decir, para jóvenes de 15 años, en un horizonte de dos décadas.</a:t>
            </a:r>
            <a:endParaRPr b="0" lang="en-US" sz="2500" spc="-1" strike="noStrike">
              <a:solidFill>
                <a:srgbClr val="464646"/>
              </a:solidFill>
              <a:latin typeface="Franklin Gothic Book"/>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3 Título" descr=""/>
          <p:cNvPicPr/>
          <p:nvPr/>
        </p:nvPicPr>
        <p:blipFill>
          <a:blip r:embed="rId1"/>
          <a:stretch/>
        </p:blipFill>
        <p:spPr>
          <a:xfrm>
            <a:off x="487440" y="1463760"/>
            <a:ext cx="7980120" cy="3193920"/>
          </a:xfrm>
          <a:prstGeom prst="rect">
            <a:avLst/>
          </a:prstGeom>
          <a:ln w="0">
            <a:noFill/>
          </a:ln>
        </p:spPr>
      </p:pic>
      <p:sp>
        <p:nvSpPr>
          <p:cNvPr id="412"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3d3d3d"/>
              </a:solidFill>
              <a:latin typeface="Franklin Gothic Book"/>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133200" y="268200"/>
            <a:ext cx="8864640" cy="148752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l Plan de estudios 2011. Educación Básica es el documento rector que define</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as competencias para la vida.</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El perfil de egreso</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Estándares Curriculares.</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aprendizajes esperados</a:t>
            </a:r>
            <a:endParaRPr b="0" lang="en-US" sz="2700" spc="-1" strike="noStrike">
              <a:solidFill>
                <a:srgbClr val="464646"/>
              </a:solidFill>
              <a:latin typeface="Franklin Gothic Book"/>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Que constituyen el trayecto formativo de los estudiantes, y que se propone contribuir a la formación del ciudadano democrático, crítico y creativo que requiere la sociedad mexicana en el siglo XXI, desde las dimensiones nacional y global, que consideran al ser humano y al ser universal.</a:t>
            </a:r>
            <a:endParaRPr b="0" lang="en-US" sz="2700" spc="-1" strike="noStrike">
              <a:solidFill>
                <a:srgbClr val="464646"/>
              </a:solidFill>
              <a:latin typeface="Franklin Gothic Book"/>
            </a:endParaRPr>
          </a:p>
        </p:txBody>
      </p:sp>
    </p:spTree>
  </p:cSld>
  <p:transition spd="slow">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14">
                                            <p:txEl>
                                              <p:pRg st="0" end="0"/>
                                            </p:txEl>
                                          </p:spTgt>
                                        </p:tgtEl>
                                        <p:attrNameLst>
                                          <p:attrName>style.visibility</p:attrName>
                                        </p:attrNameLst>
                                      </p:cBhvr>
                                      <p:to>
                                        <p:strVal val="visible"/>
                                      </p:to>
                                    </p:set>
                                    <p:anim calcmode="lin" valueType="num">
                                      <p:cBhvr additive="base">
                                        <p:cTn id="15"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14">
                                            <p:txEl>
                                              <p:pRg st="1" end="1"/>
                                            </p:txEl>
                                          </p:spTgt>
                                        </p:tgtEl>
                                        <p:attrNameLst>
                                          <p:attrName>style.visibility</p:attrName>
                                        </p:attrNameLst>
                                      </p:cBhvr>
                                      <p:to>
                                        <p:strVal val="visible"/>
                                      </p:to>
                                    </p:set>
                                    <p:anim calcmode="lin" valueType="num">
                                      <p:cBhvr additive="base">
                                        <p:cTn id="21"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14">
                                            <p:txEl>
                                              <p:pRg st="2" end="2"/>
                                            </p:txEl>
                                          </p:spTgt>
                                        </p:tgtEl>
                                        <p:attrNameLst>
                                          <p:attrName>style.visibility</p:attrName>
                                        </p:attrNameLst>
                                      </p:cBhvr>
                                      <p:to>
                                        <p:strVal val="visible"/>
                                      </p:to>
                                    </p:set>
                                    <p:anim calcmode="lin" valueType="num">
                                      <p:cBhvr additive="base">
                                        <p:cTn id="27"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14">
                                            <p:txEl>
                                              <p:pRg st="3" end="3"/>
                                            </p:txEl>
                                          </p:spTgt>
                                        </p:tgtEl>
                                        <p:attrNameLst>
                                          <p:attrName>style.visibility</p:attrName>
                                        </p:attrNameLst>
                                      </p:cBhvr>
                                      <p:to>
                                        <p:strVal val="visible"/>
                                      </p:to>
                                    </p:set>
                                    <p:anim calcmode="lin" valueType="num">
                                      <p:cBhvr additive="base">
                                        <p:cTn id="33"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14">
                                            <p:txEl>
                                              <p:pRg st="4" end="4"/>
                                            </p:txEl>
                                          </p:spTgt>
                                        </p:tgtEl>
                                        <p:attrNameLst>
                                          <p:attrName>style.visibility</p:attrName>
                                        </p:attrNameLst>
                                      </p:cBhvr>
                                      <p:to>
                                        <p:strVal val="visible"/>
                                      </p:to>
                                    </p:set>
                                    <p:anim calcmode="lin" valueType="num">
                                      <p:cBhvr additive="base">
                                        <p:cTn id="39"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14">
                                            <p:txEl>
                                              <p:pRg st="5" end="5"/>
                                            </p:txEl>
                                          </p:spTgt>
                                        </p:tgtEl>
                                        <p:attrNameLst>
                                          <p:attrName>style.visibility</p:attrName>
                                        </p:attrNameLst>
                                      </p:cBhvr>
                                      <p:to>
                                        <p:strVal val="visible"/>
                                      </p:to>
                                    </p:set>
                                    <p:anim calcmode="lin" valueType="num">
                                      <p:cBhvr additive="base">
                                        <p:cTn id="45" dur="500" fill="hold"/>
                                        <p:tgtEl>
                                          <p:spTgt spid="414">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rincipios pedagógicos son condiciones esenciales para la implementación del currículo, la transformación de la práctica docente, el logro de los aprendizajes y la mejora de la calidad educativa.</a:t>
            </a:r>
            <a:endParaRPr b="0" lang="en-US" sz="3200" spc="-1" strike="noStrike">
              <a:solidFill>
                <a:srgbClr val="464646"/>
              </a:solidFill>
              <a:latin typeface="Franklin Gothic Book"/>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8T02:07:39Z</dcterms:created>
  <dc:creator>MALU</dc:creator>
  <dc:description/>
  <dc:language>en-US</dc:language>
  <cp:lastModifiedBy>MALU</cp:lastModifiedBy>
  <dcterms:modified xsi:type="dcterms:W3CDTF">2011-12-02T22:39:47Z</dcterms:modified>
  <cp:revision>28</cp:revision>
  <dc:subject/>
  <dc:title>Diapositiva 1</dc:title>
</cp:coreProperties>
</file>